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7B6C9-7049-44A9-BADA-3D49636FB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1EC3-8669-4E50-B47B-E01238B9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DD899-61DD-4762-864E-89620D30D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79636-8171-4A89-960B-7979653FF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FB70D-6647-4514-8919-D7ABAF4A1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28291-8597-4665-8085-08B9DE1E7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22591-6BA5-4FA5-98F7-D24665E9E5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A8E4-0B46-45A2-BD37-4D76F104B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8557-62CA-4E40-B934-291D3F288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F360-7D22-4C3F-87CC-208B6A2D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40C5-0918-4B88-99B4-AE92CC71F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E296-C5D2-44BA-92DB-82821B1B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1B6DC-21D2-4F8E-A676-97E44958DA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xxx.com/" TargetMode="External"/><Relationship Id="rId2" Type="http://schemas.openxmlformats.org/officeDocument/2006/relationships/hyperlink" Target="http://www.ddddd.com/" TargetMode="External"/><Relationship Id="rId3" Type="http://schemas.openxmlformats.org/officeDocument/2006/relationships/hyperlink" Target="http://www.uuu.com/" TargetMode="External"/><Relationship Id="rId4" Type="http://schemas.openxmlformats.org/officeDocument/2006/relationships/hyperlink" Target="http://www.eeee.com/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3760" y="217440"/>
            <a:ext cx="861048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2200" y="30492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Bookman Old Style"/>
              </a:rPr>
              <a:t>Introducción a la Programac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63040" y="8380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Bookman Old Style"/>
              </a:rPr>
              <a:t>Repasando la Histori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9200" y="146988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Monotype Corsiva"/>
              </a:rPr>
              <a:t>John Alan Robi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03440" y="1471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Monotype Corsiva"/>
              </a:rPr>
              <a:t>Robert Kowal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2952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1905120"/>
            <a:ext cx="304812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905120"/>
            <a:ext cx="304812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58640" y="3984480"/>
            <a:ext cx="642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Para acceder a la bibliografía resumida de cada uno de ellos presione click en cada f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4956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560" y="4572000"/>
            <a:ext cx="393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Links relacionad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9999"/>
                </a:solidFill>
                <a:uFillTx/>
                <a:latin typeface="Bookman Old Style"/>
                <a:hlinkClick r:id="rId1"/>
              </a:rPr>
              <a:t>www.xxxx.com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Explicación breve del lin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9999"/>
                </a:solidFill>
                <a:uFillTx/>
                <a:latin typeface="Bookman Old Style"/>
                <a:hlinkClick r:id="rId2"/>
              </a:rPr>
              <a:t>www.ddddd.com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Explicación breve del lin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9999"/>
                </a:solidFill>
                <a:uFillTx/>
                <a:latin typeface="Bookman Old Style"/>
                <a:hlinkClick r:id="rId3"/>
              </a:rPr>
              <a:t>www.uuu.com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Explicación breve del lin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9999"/>
                </a:solidFill>
                <a:uFillTx/>
                <a:latin typeface="Bookman Old Style"/>
                <a:hlinkClick r:id="rId4"/>
              </a:rPr>
              <a:t>www.eeee.com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Explicación breve del lin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20320" y="5943600"/>
            <a:ext cx="701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Si está interesado en recibir información periódica envíe un mail a la siguiente casilla de corre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LOSGENIOSMATEMATICOS@HOT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1:19:18Z</dcterms:created>
  <dc:creator>Administrator</dc:creator>
  <dc:description/>
  <dc:language>en-US</dc:language>
  <cp:lastModifiedBy>Administrator</cp:lastModifiedBy>
  <dcterms:modified xsi:type="dcterms:W3CDTF">2010-04-06T01:51:35Z</dcterms:modified>
  <cp:revision>3</cp:revision>
  <dc:subject/>
  <dc:title>Slide 1</dc:title>
</cp:coreProperties>
</file>